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69147"/>
        <c:axId val="54405037"/>
      </c:barChart>
      <c:catAx>
        <c:axId val="17469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5037"/>
        <c:crosses val="autoZero"/>
        <c:auto val="1"/>
        <c:lblAlgn val="ctr"/>
        <c:lblOffset val="100"/>
        <c:noMultiLvlLbl val="0"/>
      </c:catAx>
      <c:valAx>
        <c:axId val="54405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69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13C-D9FC-49E9-8042-1AABA24F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6BD-65AF-449B-883F-FD488B59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1AB-133D-4CF8-B0DB-3CAEA3C9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A4A-B634-4870-AA2E-A906F745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D18-B774-44C7-9D09-6CF430BF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262-BE31-47C0-B0E6-400CF9E0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707-FA79-4992-AF5E-BF0BC43F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9E4-14BF-477F-BDE7-8BE945FF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A30-50D8-41E4-9122-79F6FB67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F9A-A59B-4909-8975-C0297DC2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906-2D3F-46E2-AD1A-6F197BFC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9BB-4D00-4096-A12E-D882353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76BA4-14FB-4AC2-B251-48E837EABA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