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37052"/>
        <c:axId val="62242385"/>
      </c:barChart>
      <c:catAx>
        <c:axId val="132370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42385"/>
        <c:crosses val="autoZero"/>
        <c:auto val="1"/>
        <c:lblAlgn val="ctr"/>
        <c:lblOffset val="100"/>
        <c:noMultiLvlLbl val="0"/>
      </c:catAx>
      <c:valAx>
        <c:axId val="622423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370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C04B-EA1E-4D62-ACE4-01102A23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7B85-66D1-4600-8EA6-E6FE23D5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0C42-D9A8-49A1-93BC-AD1208F4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CF0C-EC54-4789-A856-6FAB43E4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84FD-803F-4B2E-9BCB-80569696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155-4A9D-423C-997C-993EF330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B62E-693A-4580-BEEF-17F3E81B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981-C8CE-43F7-9D8B-00209F57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AB6-13FA-4AF0-9F51-BAAD2BCC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43B-B207-4B1C-A51F-753D4CEE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EAB-96D5-4BE9-A3A7-E8DCB539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9421-C700-4FFA-8E46-36B5A869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88AA2-8B27-48CA-B62B-4EB30DCD26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