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94448"/>
        <c:axId val="51622264"/>
      </c:barChart>
      <c:catAx>
        <c:axId val="28294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22264"/>
        <c:crosses val="autoZero"/>
        <c:auto val="1"/>
        <c:lblAlgn val="ctr"/>
        <c:lblOffset val="100"/>
        <c:noMultiLvlLbl val="0"/>
      </c:catAx>
      <c:valAx>
        <c:axId val="51622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4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4FD-D6B3-4909-91FF-06628E28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C82-4E8A-4D4F-BF84-4A0DE811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D5A-0790-4DC6-B545-63D3EFA4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2A9-7F0D-45DA-B93F-4DA3316C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A97-F100-4884-BC29-BAC0331C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5A6-FA15-44DA-A1CD-0CA69A8C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3F3-F7EC-4D94-ABD5-DFC7E5A4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A9C-F75B-42C9-B7C8-1B30053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BBF-92C6-4D92-B8E4-BF01D6F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49B-71DD-480E-860E-B2B90D9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D02-4E4F-4BEA-9BA6-CB534E21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338-92FE-43EE-8BB9-5E08553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7447-515D-4986-8277-D212F631B6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