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74167"/>
        <c:axId val="74619271"/>
      </c:barChart>
      <c:catAx>
        <c:axId val="56974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19271"/>
        <c:crosses val="autoZero"/>
        <c:auto val="1"/>
        <c:lblAlgn val="ctr"/>
        <c:lblOffset val="100"/>
        <c:noMultiLvlLbl val="0"/>
      </c:catAx>
      <c:valAx>
        <c:axId val="74619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74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274-A93F-41E0-B731-33FF7EEF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B38-BBB1-4F49-BD6C-F03EF24C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0A6-DB11-49C8-B2B0-92F9BC72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AA1-DD50-487C-ACA3-DDAAEDF2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6BD-21A5-4D7E-8E53-DB82017D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251-471A-499F-8606-964A30A9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181-58FB-4E17-B445-DAAD7D7B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EE5-75EE-498D-9115-00ECF378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C33-CBB7-411B-B57B-F0B034DB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DF8-97B7-4CCE-97A4-3102375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1DA-8917-4DBB-9DA1-6C1A053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C92-1330-43AE-A083-49355C8E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F3B3F-B736-49DB-B1AE-0E82C1F5DC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