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33315"/>
        <c:axId val="20185868"/>
      </c:barChart>
      <c:catAx>
        <c:axId val="72033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85868"/>
        <c:crosses val="autoZero"/>
        <c:auto val="1"/>
        <c:lblAlgn val="ctr"/>
        <c:lblOffset val="100"/>
        <c:noMultiLvlLbl val="0"/>
      </c:catAx>
      <c:valAx>
        <c:axId val="2018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33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1EF-A4C1-4000-A941-D999CA73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AE2-A526-4C5B-BC2F-40A169B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97B-178E-4D1A-AA95-05C71BFC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2C3-1138-429D-A0CF-CA48A829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FC3-125D-479C-8711-3C483FE7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BBF-941D-40BE-A7D7-907F97E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FFE9-8F42-485C-976A-F94BC3FA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AF6-5211-4AD5-870D-E8FBE52A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5CE-8544-4FF1-8D19-7C2CE2C5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4E2-D5C7-4E68-9A7D-BA32510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A0F-3479-4A96-923B-5B1C439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98F-20AA-4BA5-88F4-A92D01C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9D4D9-BDD9-404C-9B97-1E7D4AD70A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