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61690"/>
        <c:axId val="19961526"/>
      </c:barChart>
      <c:catAx>
        <c:axId val="46861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61526"/>
        <c:crosses val="autoZero"/>
        <c:auto val="1"/>
        <c:lblAlgn val="ctr"/>
        <c:lblOffset val="100"/>
        <c:noMultiLvlLbl val="0"/>
      </c:catAx>
      <c:valAx>
        <c:axId val="19961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61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1FC-9141-47EA-A8AF-BAD4864E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3F8-B65E-4620-88C0-18FA9E04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238-09E6-4DC0-B8CA-054B2574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0D2-C335-4050-A93E-8FAC8D9C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B7F-AE03-4FDD-AE8A-487C7920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10A-C876-4027-B96A-FBE9B1D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4B9-B649-4F27-BE06-D9B16901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AB3-6292-4FA0-A919-ED7C407A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9F6-7F0C-4791-B5A4-D2AE8DE1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7C5-3FD0-4570-A075-66F71D78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8AD-531F-4901-A997-F59B48A6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061-F2CD-4718-BDCC-71E96734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AC07D-6690-44D3-B3CB-F8E02A02B0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