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22632"/>
        <c:axId val="4928200"/>
      </c:barChart>
      <c:catAx>
        <c:axId val="40822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8200"/>
        <c:crosses val="autoZero"/>
        <c:auto val="1"/>
        <c:lblAlgn val="ctr"/>
        <c:lblOffset val="100"/>
        <c:noMultiLvlLbl val="0"/>
      </c:catAx>
      <c:valAx>
        <c:axId val="4928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22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DEA-9E3D-4F5E-915F-418E81B6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280-133D-44C1-84A7-BF273B5F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F2D-0686-4F30-A52B-F2E9151B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02E-456F-43F8-A0AC-7A8A7678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9E3-6EE6-4897-8501-7B27DF6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A2A-3A52-4679-BEB1-0E9FCA1D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15F-C32F-4DEC-933A-09AF9A4B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811-7CAA-424C-916A-FF71ACFF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72E-96A3-4029-8726-58AAE084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B02-9B47-4476-B37A-32BE924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280-4746-4356-924E-381497A2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F49-D315-45C5-86DF-1E3DDE2A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D0226-F388-4DF3-B874-0A6685C2A3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