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00009"/>
        <c:axId val="15147137"/>
      </c:barChart>
      <c:catAx>
        <c:axId val="23000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47137"/>
        <c:crosses val="autoZero"/>
        <c:auto val="1"/>
        <c:lblAlgn val="ctr"/>
        <c:lblOffset val="100"/>
        <c:noMultiLvlLbl val="0"/>
      </c:catAx>
      <c:valAx>
        <c:axId val="15147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00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9B2-68EC-4F92-A80F-F3028D40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D12-00D0-4C94-AC09-2713CB1B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950-EF5D-4F97-9B98-989FECF7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F9C-9D4D-4CA8-94B7-6C776984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311-65A3-437A-9DD1-696CACB7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AF4-2406-492F-80CB-D1729CB4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9E3-08D3-49B9-8C6B-19E859D1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6B6-E20D-4C50-9FBE-BC27D032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DED-57D5-42A9-8ED0-163CF880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5EE-5584-4745-A571-094466BB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CFB-FF07-44C4-886B-48943E1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539-F288-4B36-9F4B-7921C5C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A6F5B-4F05-4354-B741-3D4B762D2B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