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285281"/>
        <c:axId val="6333565"/>
      </c:barChart>
      <c:catAx>
        <c:axId val="542852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33565"/>
        <c:crosses val="autoZero"/>
        <c:auto val="1"/>
        <c:lblAlgn val="ctr"/>
        <c:lblOffset val="100"/>
        <c:noMultiLvlLbl val="0"/>
      </c:catAx>
      <c:valAx>
        <c:axId val="63335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2852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FA62-F716-45B9-9D3D-B8CECDE42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5E63-D70B-443C-A059-4FA2CF134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4C9C-CDFC-4A98-8CD3-919DF620E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9F09-39A5-430C-BECE-ECFFD70AD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C466-9021-45ED-BFB4-7754D4B45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1CCD-DE7B-477E-A350-EE1B5148E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8D5C-DFDC-44D6-8B0E-0BCFF6440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D6FB-97F5-43D3-A620-517691EB5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B38A-9609-4240-9756-287A59AE5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7C2F-443D-4E71-8F99-9609173E6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47B2-3C2F-4E9A-B25D-074FAE67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7241-491E-4A9F-904A-ECD88F814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8B8C98-FA84-4C53-A525-A12EE99E170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