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98943"/>
        <c:axId val="94854286"/>
      </c:barChart>
      <c:catAx>
        <c:axId val="43498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54286"/>
        <c:crosses val="autoZero"/>
        <c:auto val="1"/>
        <c:lblAlgn val="ctr"/>
        <c:lblOffset val="100"/>
        <c:noMultiLvlLbl val="0"/>
      </c:catAx>
      <c:valAx>
        <c:axId val="94854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98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66B-4F37-4559-B2AF-1DE37960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5E4-F324-4E48-817D-9FB82437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3FA-F0E4-413F-B38C-91AFBE43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1BA-4BBF-4A80-A42A-CF410049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5D8-B444-4866-BCD8-AF092369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BF4-F9CE-48F1-8440-75EB9BD8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38B-3306-43E7-9FD1-51C143EB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EB1-0E1E-4ECE-A367-DC729EE1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95E-5A48-4A7D-97DB-64874862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A29-FA13-4C63-ADC3-CAA5C4EC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FE0-50F7-4E5F-8BE0-BCD6DB4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BA7-947C-498E-A6F8-2CA0CEDE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9C43C-1484-4A85-8EA4-1BA40D3FFE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