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625108"/>
        <c:axId val="7003982"/>
      </c:barChart>
      <c:catAx>
        <c:axId val="866251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3982"/>
        <c:crosses val="autoZero"/>
        <c:auto val="1"/>
        <c:lblAlgn val="ctr"/>
        <c:lblOffset val="100"/>
        <c:noMultiLvlLbl val="0"/>
      </c:catAx>
      <c:valAx>
        <c:axId val="70039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251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C118-CCFF-4D8E-B184-68D0C1EAA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7335-E1A3-4A5A-86BE-6C06E02D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7BE5-B453-4B66-A1D6-CFADB979B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3C97-571E-412D-96E3-F31413FEA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EB45-BF85-4047-8990-D3FC9843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BF48-F39E-4304-AD53-84900AD5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CC34-31CD-42E4-BD28-9125F2C6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7B54-FA13-4096-A9F3-B192B2BD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5E73-EE1B-4A0A-804D-1E4EE305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1D50-CE56-47C7-B4F7-B88ADCDB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4211-2A0B-4C82-865D-3D2FC862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04B8-3AA4-4C32-8F45-DD584474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CDEFE-5682-43F0-813F-FBCFF38D98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