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88844"/>
        <c:axId val="71764482"/>
      </c:barChart>
      <c:catAx>
        <c:axId val="70688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64482"/>
        <c:crosses val="autoZero"/>
        <c:auto val="1"/>
        <c:lblAlgn val="ctr"/>
        <c:lblOffset val="100"/>
        <c:noMultiLvlLbl val="0"/>
      </c:catAx>
      <c:valAx>
        <c:axId val="71764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88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719-2201-494A-9862-8A63AFAB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1C2-F6D1-435D-956A-AB352281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51A-46E0-4256-8512-46C77D66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7CD-E485-4F1E-8616-134F94AA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54C-C9F7-45A4-BF76-90C413E7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B4D-73F0-48D9-9944-C9FFEF45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8EC-24E8-4C50-A763-CF1FCC3E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350A-7D30-4FFB-8662-227EA2BE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F8C-0BA0-4F24-A03A-ED4EF81B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B2B-E490-4240-9780-EF88EDDA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EF1-43E7-4170-A33E-AF0D5533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41F-50C5-45D6-B96A-F368458C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9376B-389E-448A-B06A-EC51235117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