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7949218"/>
        <c:axId val="93730127"/>
      </c:barChart>
      <c:catAx>
        <c:axId val="2794921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730127"/>
        <c:crosses val="autoZero"/>
        <c:auto val="1"/>
        <c:lblAlgn val="ctr"/>
        <c:lblOffset val="100"/>
        <c:noMultiLvlLbl val="0"/>
      </c:catAx>
      <c:valAx>
        <c:axId val="9373012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94921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E8B58-E77C-4106-B62B-E9FB40921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BE510-73D5-4909-8598-48F1B5434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14939-3853-49B9-9C33-2D12A9905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9AC39-E6B6-47AC-833C-471385993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29B7B-07BD-4D7E-9C69-075A06E20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94C0F-A617-44F2-A354-DBFB649F9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1B277-2195-49DD-BD5E-9B86CDE77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9AE45-DDC8-4E7D-AD6C-84453BB6A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76FDA-CDC5-4D68-B4B2-3C3DF1968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04149-8BE7-4203-91EA-5BCACB9CC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28B76-EE4D-4179-B5A4-28FF8CD70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E330E-B744-49AC-BB05-E3A9B6058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AC660D-A54B-4816-8DE4-56593E3DF2A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