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95908"/>
        <c:axId val="36599743"/>
      </c:barChart>
      <c:catAx>
        <c:axId val="239959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99743"/>
        <c:crosses val="autoZero"/>
        <c:auto val="1"/>
        <c:lblAlgn val="ctr"/>
        <c:lblOffset val="100"/>
        <c:noMultiLvlLbl val="0"/>
      </c:catAx>
      <c:valAx>
        <c:axId val="36599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959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822-6810-4ED2-B505-6438B886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DD2-FEDF-4DA7-81F7-C1EC63C5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B81-3BD5-49BA-BCFB-C1B8800D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2B3F-287E-4B42-9CE3-A6B9B7CA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3C4-C7E6-49A4-9A10-134D34C2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B71-C827-4D3E-ABC5-32B39CC7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2CE-1AC6-4813-BEE7-37295990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C2A-48F9-49E9-8690-DD7AD579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88E-E577-4955-8334-DEBAF0C7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E079-C7B3-46B7-AAB6-D56195BB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C75-1BB9-4E6E-9F88-06C0E54F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69D-F20C-4C8E-BA7B-DE40FCF8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D669C-2E19-4461-93A3-E33001B0D3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