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89831"/>
        <c:axId val="1015274"/>
      </c:barChart>
      <c:catAx>
        <c:axId val="89089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5274"/>
        <c:crosses val="autoZero"/>
        <c:auto val="1"/>
        <c:lblAlgn val="ctr"/>
        <c:lblOffset val="100"/>
        <c:noMultiLvlLbl val="0"/>
      </c:catAx>
      <c:valAx>
        <c:axId val="1015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9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E1C-4B08-4E0B-9228-7ADAE207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C1E-4390-4A3D-A346-8F8586E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969-94D7-44F4-8AF4-C9340C3E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ED-DA59-4050-9E65-9A71BA3C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1EF-4B11-4522-A509-110BD69F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B35-94D5-42CD-94C0-CCE42AE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685-03DF-4DA3-8D59-5D63BAAC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144-DB44-4738-B1EA-7711F07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D7E-269C-4819-B3B5-98F1CB87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B1C-A5C2-4C63-BEF7-8DE2553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9E2-DECC-4BBF-B329-E4631A6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D75-CA28-4A99-8230-103D8E8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3DECF-068D-4D29-9AE2-D89400AE27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