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996673"/>
        <c:axId val="86699210"/>
      </c:barChart>
      <c:catAx>
        <c:axId val="889966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699210"/>
        <c:crosses val="autoZero"/>
        <c:auto val="1"/>
        <c:lblAlgn val="ctr"/>
        <c:lblOffset val="100"/>
        <c:noMultiLvlLbl val="0"/>
      </c:catAx>
      <c:valAx>
        <c:axId val="866992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9966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3FA5-B8BA-474E-87F0-9A01AC3AA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EAD8-206C-4F05-AB82-719143FF6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9722-34DE-4173-A616-45FB31E33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978C-EB53-47C6-97CB-9E9184D5E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F50C-765E-4092-9DAE-2AA3D27FA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5970-45DC-44B4-97CE-F7211D312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2B36-513C-4E22-9B7B-82D077E27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4C1A-238F-417D-A3A1-8970C213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B48A-92B8-451C-B329-FE2077609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91CE-4052-40C6-9C5A-65AE695C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57C4-8F94-42C8-A607-00770DE7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7D9A-7601-4FBC-97EA-BE1DBE58B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0F76B2-144E-4EDA-A329-7A84C6AD0D6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