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52941"/>
        <c:axId val="57633186"/>
      </c:barChart>
      <c:catAx>
        <c:axId val="52452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33186"/>
        <c:crosses val="autoZero"/>
        <c:auto val="1"/>
        <c:lblAlgn val="ctr"/>
        <c:lblOffset val="100"/>
        <c:noMultiLvlLbl val="0"/>
      </c:catAx>
      <c:valAx>
        <c:axId val="57633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52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6A9-F4FD-4E1B-8911-95502B7D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8CF-7463-41E3-8D88-D8E97B72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56A-0A3B-4EC4-B738-F6F90861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3E3-FDC0-4287-845A-D94F2B85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6BD-86FB-4549-B1E2-08DA54F8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226-C000-4F22-A057-DAB21A53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77D-3282-4725-A5BE-BAB00465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0C9-878F-4AAC-816F-780A60E0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4B0-EEAD-4D47-8F8D-BEE8B63B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DBB-2990-45D2-B2F9-348DF27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817-5952-4C74-9152-EB78F162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074-7269-4A73-93A6-4CED5149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430CF-07C6-4956-B372-C307B60E7C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