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08536"/>
        <c:axId val="62201483"/>
      </c:barChart>
      <c:catAx>
        <c:axId val="844085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01483"/>
        <c:crosses val="autoZero"/>
        <c:auto val="1"/>
        <c:lblAlgn val="ctr"/>
        <c:lblOffset val="100"/>
        <c:noMultiLvlLbl val="0"/>
      </c:catAx>
      <c:valAx>
        <c:axId val="62201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085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0045-1377-445F-BAA4-BEBB8184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D4F-CC9B-454E-8596-E0D83AAF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31A-0DCA-416F-8834-235F9E51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AED0-E1D1-42BD-ACDD-27E5ECFC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680-6FBA-497F-839C-39EAC521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23F-44F0-4466-A03D-32398D03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378-7D5D-47CD-8A29-CD79C7C2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38DD-83B3-4DCA-A995-E92BA5B9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D5B-0E79-48FD-9916-49D245E9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E3E-614B-46C8-A171-F2780835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23D-128A-4ED2-81F9-3B7BAE8C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E72-B7D4-46ED-B40E-27734F4C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5FD7C-6C9C-477F-A2EB-5159F3ED6C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