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58284"/>
        <c:axId val="6445575"/>
      </c:barChart>
      <c:catAx>
        <c:axId val="46158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5575"/>
        <c:crosses val="autoZero"/>
        <c:auto val="1"/>
        <c:lblAlgn val="ctr"/>
        <c:lblOffset val="100"/>
        <c:noMultiLvlLbl val="0"/>
      </c:catAx>
      <c:valAx>
        <c:axId val="6445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58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A04-8DDF-49FB-9BED-F6053F86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CD85-13E8-4300-BB29-F5F6F4F8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0EB-6934-4E7E-9AF6-6B0E33F6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760-5B5F-4AF7-AA75-330AE7F2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2840-117C-4D62-85A3-60E42EE7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AAF-B832-4849-9F3B-C2933A6A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8C7-07CF-4416-8328-3D50C860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2EC-AD14-4E10-9909-2FF32A61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709-B134-4313-97AF-AF87E516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457-7E0D-4D7B-B1C3-F2118F14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24A-E3B0-4963-9A06-AE2F0D1E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7AC-88A3-462F-B4AB-21AF7237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EB91D-FC0C-4995-84E3-5614C5DA68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