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7444"/>
        <c:axId val="1119806"/>
      </c:barChart>
      <c:catAx>
        <c:axId val="43374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806"/>
        <c:crosses val="autoZero"/>
        <c:auto val="1"/>
        <c:lblAlgn val="ctr"/>
        <c:lblOffset val="100"/>
        <c:noMultiLvlLbl val="0"/>
      </c:catAx>
      <c:valAx>
        <c:axId val="1119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74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AC8B-C841-4B75-AC98-EE44BEAF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2E5-113A-4D72-8714-994252F35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A4BE-A46B-42EA-AED6-1C83DE90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0B5F-6E4E-43AD-B79C-B47D50DD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6D7D-5108-4715-8E9C-46CCC174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D996-681F-4ED7-B522-5FC97239B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A670-A4C7-4513-9A64-5A2BDAEF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113D-BA54-407A-B8F8-9223ADED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C976-D8CA-4576-A8B5-3ED67261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B1F-2F8B-4632-9A16-212FC50D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F0B1-1E4F-4EDC-94EB-142B6897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43E-C484-4E07-B7F3-084C1C5C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A9929C-5D3F-4DF3-ACFD-9B13AFA19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