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0011"/>
        <c:axId val="90436657"/>
      </c:barChart>
      <c:catAx>
        <c:axId val="9500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36657"/>
        <c:crosses val="autoZero"/>
        <c:auto val="1"/>
        <c:lblAlgn val="ctr"/>
        <c:lblOffset val="100"/>
        <c:noMultiLvlLbl val="0"/>
      </c:catAx>
      <c:valAx>
        <c:axId val="90436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0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DBF-E77E-4800-93BE-F4509915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DFD-0A60-4D7C-8702-FD7366C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9B0-FCCD-4E5B-A523-BC8730C3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CFB-530F-4AD9-8C29-B10578A4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FCD-8E41-4D02-B3F3-7E40FF4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9DE-3E92-4FB3-AE2F-94B00DB9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D89-1986-42A7-BCD1-65B55E49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B0B-F553-4A17-9C3B-8B65BB3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D53-3EEA-44BE-8C9F-9D050CED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58E-1332-4EAA-8876-FADF261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40A-B75C-42CB-BBB9-8677CE9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4B9-E625-4479-BC09-C3064A3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7B5B-745C-468A-89AE-BC124913E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