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11863"/>
        <c:axId val="12379351"/>
      </c:barChart>
      <c:catAx>
        <c:axId val="92611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79351"/>
        <c:crosses val="autoZero"/>
        <c:auto val="1"/>
        <c:lblAlgn val="ctr"/>
        <c:lblOffset val="100"/>
        <c:noMultiLvlLbl val="0"/>
      </c:catAx>
      <c:valAx>
        <c:axId val="12379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11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293-AE90-4297-B405-82E5F5C0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C342-DD24-4A6D-B5A8-B85FAF56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7CF-58F7-4B12-A52C-B9D7DA4C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A064-8D2B-425A-996E-BE9DB1BD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F42-DC99-487F-A185-DA4F5337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785-B4D4-4696-823C-3716533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BF4-97A9-4F4F-ADDB-F0251343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25B-64B0-45FD-998C-41712599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929-99DC-43B9-A5B8-9C22FBBB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3809-2AC9-48D8-8243-607A2AE9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76A-2DE2-4AE2-B415-F125680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9D9F-A5CE-4B33-A9F8-B20784D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0F580-30A1-4425-8CB2-08CEF12E69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