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30021"/>
        <c:axId val="59890645"/>
      </c:barChart>
      <c:catAx>
        <c:axId val="81830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90645"/>
        <c:crosses val="autoZero"/>
        <c:auto val="1"/>
        <c:lblAlgn val="ctr"/>
        <c:lblOffset val="100"/>
        <c:noMultiLvlLbl val="0"/>
      </c:catAx>
      <c:valAx>
        <c:axId val="59890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30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C72-A80A-40E3-81B8-A10C4F0B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EC3-02FF-4821-8159-19A930C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7FF-4D4E-441B-8F39-3F0953D5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8DC-08A4-4EE6-ACB3-555D98CC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7F4-734B-4530-9B98-46C1A5B6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814-0067-445E-9FA9-A026D33C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007-3185-4A80-9B59-1670A01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ADB-58A1-4641-B69E-F144DF8D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D84-49D7-4B6F-8CB0-F54ED17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018-CDCB-4C6E-8D94-CE3C7315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9F3-34CC-4E65-B7C0-330C949A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E29-8F1A-48AB-9539-71D9A389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038E1-849E-430F-B6C2-30C14BE83E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