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8978"/>
        <c:axId val="53949491"/>
      </c:barChart>
      <c:catAx>
        <c:axId val="69128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49491"/>
        <c:crosses val="autoZero"/>
        <c:auto val="1"/>
        <c:lblAlgn val="ctr"/>
        <c:lblOffset val="100"/>
        <c:noMultiLvlLbl val="0"/>
      </c:catAx>
      <c:valAx>
        <c:axId val="53949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8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42F-2249-4E95-8FE1-D447B3E8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54A-3B42-4DFF-AF38-E9106464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F0F-C862-495C-83CA-7174F86C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78A-A4E1-472E-B071-31B72807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EEE-D6C1-4C92-8DB2-31ABAD75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A3E-45C4-44FB-AD51-90B4350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C58-6167-4B4E-A085-899E4FE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86C-19BE-4172-B817-B6549E92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E9C-9CC1-4C5F-9ECD-D30A6F8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D1C-8DBB-4C2B-9242-C9932B6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26D-E6A6-4287-9DB7-4F853D2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30A-36F5-4EB0-80E9-097F088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A91AF-DEA0-460F-BA39-45292663D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