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1900"/>
        <c:axId val="95753865"/>
      </c:barChart>
      <c:catAx>
        <c:axId val="4531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53865"/>
        <c:crosses val="autoZero"/>
        <c:auto val="1"/>
        <c:lblAlgn val="ctr"/>
        <c:lblOffset val="100"/>
        <c:noMultiLvlLbl val="0"/>
      </c:catAx>
      <c:valAx>
        <c:axId val="95753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1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05B-0D24-4E56-A806-3BC4C828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BE2-F588-4958-AFF1-520DDB1C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585-5DB9-4C33-ADCA-E41C90A0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835-22A1-46C2-8022-7D771BF4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7C4-06DA-4547-B5A9-759C60C6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43A-7426-4285-BC33-4767732E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4F6-DC72-433B-A854-307E5801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A5A-9246-4A98-B022-704EAEF8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8F0-96BF-4601-8472-023920C8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4E0-5107-4F0F-A3E7-75C909B6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8AB-7187-4CA3-8032-B3CE4AC7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175-3FCD-44B5-A836-A2CD5906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460FD-2623-4E92-9274-7F25BA8BD7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