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80151"/>
        <c:axId val="22284174"/>
      </c:barChart>
      <c:catAx>
        <c:axId val="96780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84174"/>
        <c:crosses val="autoZero"/>
        <c:auto val="1"/>
        <c:lblAlgn val="ctr"/>
        <c:lblOffset val="100"/>
        <c:noMultiLvlLbl val="0"/>
      </c:catAx>
      <c:valAx>
        <c:axId val="22284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80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9C3-8785-45BD-97E6-0D345C66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CD0-33F9-4A0D-A7F5-AD71EECB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BE9-2011-4AE4-8780-A64CFC7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C3C-704D-4C8C-9903-720AFEA5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136-B7AF-40B8-8AFF-8117F6AB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1C2-6330-4057-8CEA-1E9F1BEC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F02-41FE-4B1B-BB77-38BD2C1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B9D-4721-4963-8DAF-51CCA11F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31E-2136-4FA3-87C8-CEFCFE1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A18-2184-45FC-ADA0-8178CEA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F0A-0205-478D-81B0-44A4C30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D9C-9D5B-4925-9D14-D96CCB3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16970-DF6C-46CC-AA06-53491BC538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