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1888"/>
        <c:axId val="44823939"/>
      </c:barChart>
      <c:catAx>
        <c:axId val="49341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23939"/>
        <c:crosses val="autoZero"/>
        <c:auto val="1"/>
        <c:lblAlgn val="ctr"/>
        <c:lblOffset val="100"/>
        <c:noMultiLvlLbl val="0"/>
      </c:catAx>
      <c:valAx>
        <c:axId val="44823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1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9A5-8B52-4B98-9A32-0EF10992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02F-1808-40AF-8E8F-D471FDB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E19-186B-4966-BE9E-101E93D6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EBC-95B0-448F-85DB-3F1925A6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905-B524-4272-9D98-7491D515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EE8-5551-43F2-83FB-A9DBBEA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A2F-CF02-40B6-AD91-467E27A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04F-BA71-4687-A37D-AB64706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1AD-CE7B-433A-BF2E-0FEE5D2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460-E8F8-43B9-9806-C4484AE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735-9FFD-4B6D-BAFF-70FC5CD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61-11C9-42AE-A358-D1AF92C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A0311-E2E3-4860-9331-D2DEFD0C0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