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66692"/>
        <c:axId val="590205"/>
      </c:barChart>
      <c:catAx>
        <c:axId val="46666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05"/>
        <c:crosses val="autoZero"/>
        <c:auto val="1"/>
        <c:lblAlgn val="ctr"/>
        <c:lblOffset val="100"/>
        <c:noMultiLvlLbl val="0"/>
      </c:catAx>
      <c:valAx>
        <c:axId val="590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6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36C-4963-4598-9B79-F1C7D49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D74-2D13-4F6C-A385-994BFB36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CA0-3A96-41F6-B4AE-DCADF365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BA9-806C-4A52-854D-56DCA9AF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D68-A9D9-49F6-8AEF-0443CBB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927-AD5E-422D-86F6-C49D24FA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657-A9BA-4AF6-AC23-2E5CE94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836-CE81-4D31-9DA3-2F4D9B6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0CC-20F1-435F-A0AA-B276002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D15-4D1F-482E-9704-57F231A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75E-9385-4C3B-8E70-810BA45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6F2-C620-4197-AF71-ADA3741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4890F-E564-4FAE-9555-B303591F8B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