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61409"/>
        <c:axId val="15709133"/>
      </c:barChart>
      <c:catAx>
        <c:axId val="29861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09133"/>
        <c:crosses val="autoZero"/>
        <c:auto val="1"/>
        <c:lblAlgn val="ctr"/>
        <c:lblOffset val="100"/>
        <c:noMultiLvlLbl val="0"/>
      </c:catAx>
      <c:valAx>
        <c:axId val="15709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61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B8A-27A2-412F-8484-914EA3B5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E5D-8FA7-44BD-B2AF-DD0B4D8E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84F-0094-41B8-8778-888EC95D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C64-BE56-4264-9620-A20F0480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B97-FAD9-451B-918B-A4A1243D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258-A33C-4B3C-A499-649969AB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C47-8181-431E-96B6-CBD01B8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56D-C45C-4F08-9B56-CC238440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EEE-0FC5-4B50-B5E6-934D2BD9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2FC-3D62-423B-8B95-5BA91AA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5C4-1A81-4ACA-B1EA-410B5A5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995-0751-4ED8-A5F5-B43B54D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1B56A-BA80-41B2-ACD8-2AD9508812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