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9955"/>
        <c:axId val="17113252"/>
      </c:barChart>
      <c:catAx>
        <c:axId val="6349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13252"/>
        <c:crosses val="autoZero"/>
        <c:auto val="1"/>
        <c:lblAlgn val="ctr"/>
        <c:lblOffset val="100"/>
        <c:noMultiLvlLbl val="0"/>
      </c:catAx>
      <c:valAx>
        <c:axId val="17113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9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D01-AA8D-497B-AAF6-EDF7B9C5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6E8-FDC4-4ABB-8C84-FE7990B8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657-DA49-495C-AA9B-EE8EE0DE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B09-AACB-44BA-9A87-864DECF3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F78-3C92-4139-A93D-213AB7A5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9AA-6EE3-419F-8AEB-DDFBF4B2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CA8-51DE-4316-A7DB-2A122446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B9A-40F6-483E-8CEC-C68DAE9F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4CE4-BAEC-4558-A8B0-91CD2B22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CC1-8EF8-4CE3-BA1B-61260E2E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087-CA58-4E45-8C69-0C5B3FC3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59A-BA76-43C9-A74B-DF5BE31E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53871-A7E6-49C4-97E2-B8B2AEA2B9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