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89440"/>
        <c:axId val="29883232"/>
      </c:barChart>
      <c:catAx>
        <c:axId val="26689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3232"/>
        <c:crosses val="autoZero"/>
        <c:auto val="1"/>
        <c:lblAlgn val="ctr"/>
        <c:lblOffset val="100"/>
        <c:noMultiLvlLbl val="0"/>
      </c:catAx>
      <c:valAx>
        <c:axId val="29883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9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2F9-C18F-4050-B37C-1586D9A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2BD-50AB-48E0-AE46-D301EBA4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6A3-69EC-4FA4-87B5-418AA25C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8B0-CC1B-4555-88A0-DD7E8CE2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8D2-9F5A-4E90-991A-BFB338E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B06-ABEB-4F09-BF23-D90C0A9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D51-23BB-47EC-8C72-628ABB6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052-5092-4D71-8862-72935AB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25A-9492-47BD-8DE7-0F00AF8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EAE-6222-41CB-BFA4-2428EBA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397-8D33-42D7-BDC5-621BB0BF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C85-A4B8-4F5D-99EC-D21E8D6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5DF8-BA70-4B81-A9C0-889EACF3E5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