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22779"/>
        <c:axId val="70866507"/>
      </c:barChart>
      <c:catAx>
        <c:axId val="42622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66507"/>
        <c:crosses val="autoZero"/>
        <c:auto val="1"/>
        <c:lblAlgn val="ctr"/>
        <c:lblOffset val="100"/>
        <c:noMultiLvlLbl val="0"/>
      </c:catAx>
      <c:valAx>
        <c:axId val="70866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22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9F82-0CF6-4230-8068-5E3DD8E5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CEF-5707-4D90-AD59-3E9830C6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347A-05E7-452E-8FC0-5393E717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BEC-03DF-4BF1-93F5-9F134B90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7D3-0C30-4C4C-A289-6A40E626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BCEC-3845-4006-A564-3DFCF108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07C-B9F3-4B39-B893-7BB025B9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DC51-61CB-4941-B398-6CB68286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8C9-7084-4903-B73F-09F7A889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DCE8-889F-4E6A-BA0D-F60C2024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13FD-8749-4C36-BA32-12B3528B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1A9-2D62-42BB-A317-395F2E8D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3279C-7DEA-4D0C-9C8A-80FC668AD2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