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58983"/>
        <c:axId val="77101696"/>
      </c:barChart>
      <c:catAx>
        <c:axId val="77958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01696"/>
        <c:crosses val="autoZero"/>
        <c:auto val="1"/>
        <c:lblAlgn val="ctr"/>
        <c:lblOffset val="100"/>
        <c:noMultiLvlLbl val="0"/>
      </c:catAx>
      <c:valAx>
        <c:axId val="771016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58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E0D-C828-4588-9471-3926E8F0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93D-CE6D-43AF-81E8-E3063ACC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237-0234-4265-994A-45362C96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81D-B907-4EDC-85A4-63F32FBC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36C-E483-42CB-9EE9-4CE4C9AD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25C8-5A97-4E2A-9707-CB601832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561E-50D9-4B82-903E-A0116DF9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321-E15A-4189-8D98-9115C2DC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2DC-AD78-4622-86A2-C0199093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AE4-0EC1-416E-8E5B-63464217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9F9-494C-4DF0-BCEA-A84538AC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97B-FD44-4161-A3F9-82352AEA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2108F-64CE-4BF6-9A70-78D26F2A6B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