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91185"/>
        <c:axId val="23661099"/>
      </c:barChart>
      <c:catAx>
        <c:axId val="22191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1099"/>
        <c:crosses val="autoZero"/>
        <c:auto val="1"/>
        <c:lblAlgn val="ctr"/>
        <c:lblOffset val="100"/>
        <c:noMultiLvlLbl val="0"/>
      </c:catAx>
      <c:valAx>
        <c:axId val="23661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91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E3D-34BC-435F-8300-3C9B2C2A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950-00DA-4B3C-9791-022B80EB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A18-EA98-4043-99CC-F673CF84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591-7C61-47A0-B1D6-4833848E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0CE-0C18-4872-8CCA-6E28484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EAF-A0C8-42A4-846A-13772374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82B-FC1E-42BE-A44C-1DB23AED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68D-9A3B-46CC-8B38-5F7E058E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6BB-4444-43EF-8112-E13F4F6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4BF-5D69-462B-8CE3-7A4181F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F92-C74E-4ADE-954D-BB58853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CEC-EC15-4C4E-84F3-618F8D0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530DD-DA8E-4FD8-A846-59D9C54FA6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