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74846"/>
        <c:axId val="21635918"/>
      </c:barChart>
      <c:catAx>
        <c:axId val="40748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635918"/>
        <c:crosses val="autoZero"/>
        <c:auto val="1"/>
        <c:lblAlgn val="ctr"/>
        <c:lblOffset val="100"/>
        <c:noMultiLvlLbl val="0"/>
      </c:catAx>
      <c:valAx>
        <c:axId val="216359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748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0DFC-5B5D-41A6-B193-DF4240AB4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D2C5-E1F6-4AA3-B881-5E5D7590D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2F9C-B16B-4F00-8685-4109CA410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C798-5139-4DCC-91BD-C3D885452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A283-BA4C-4E93-A8C2-61CCD8FFC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EE30-5AE2-4008-BB6A-0CAE7AA1B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9577-69E6-49F3-AF43-65EF1A2C8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CC95-0E47-4C15-A8A5-E1795D498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15B9-E5F8-4029-A8D0-64E5FA389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BFD9-8443-499C-B140-092917ED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FAD2-DE52-4245-92E9-8F415DB7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AD91-6F7C-4184-ABF0-7323BF5B0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AA8EBC-FF2E-44CF-A4D0-DD4F3BBDB9A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