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16941"/>
        <c:axId val="52337869"/>
      </c:barChart>
      <c:catAx>
        <c:axId val="242169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337869"/>
        <c:crosses val="autoZero"/>
        <c:auto val="1"/>
        <c:lblAlgn val="ctr"/>
        <c:lblOffset val="100"/>
        <c:noMultiLvlLbl val="0"/>
      </c:catAx>
      <c:valAx>
        <c:axId val="523378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169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C9A4-F17E-4A1D-8E82-47F6F233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2254-6C48-4B3B-82DE-323093F61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7A44-0D3D-4901-8C3B-D6F5345F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015-321A-4B4D-85E7-127EF9A4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4644-E006-4FAD-B2CA-0F611FC6A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F140-2E2F-44D5-B68D-E58CE9B77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CA6C-6DC3-4FC0-B413-A1FDC7B10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E0EB-7D51-4B34-9762-56AA7C97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6EE0-F58D-4786-908A-1B45579D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7BD-F6E3-4199-8684-8FFA8FCF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5761-CD63-41B8-8EEC-90ADAEA4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EA4E-DC82-48BE-99BA-04D426493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D1475-4C02-4709-A864-7582BC2D9C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