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57481"/>
        <c:axId val="61072626"/>
      </c:barChart>
      <c:catAx>
        <c:axId val="13257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72626"/>
        <c:crosses val="autoZero"/>
        <c:auto val="1"/>
        <c:lblAlgn val="ctr"/>
        <c:lblOffset val="100"/>
        <c:noMultiLvlLbl val="0"/>
      </c:catAx>
      <c:valAx>
        <c:axId val="610726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57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534-B428-45C1-90EC-9BD08FF2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81F8-B29F-428F-81CB-4D213A1A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993-FB92-403D-8D7C-B958A239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9BE6-B8C4-4FA6-B4F2-5FBBF543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9E6F-CFF4-4234-ACA0-906D7B36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B2DA-B80B-478A-959B-17D8F51A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E93-8EAE-4750-9F79-A3D40FCB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75D-1C9D-48C0-B173-A2DF2C88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B02-9615-4BB7-8F33-D58C3E5A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03C-3398-4474-992E-768F3556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1F4-0350-42B5-AFCE-54D9885F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78F-CF1A-4A16-8D5F-27847929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6C984-E61F-449B-BFF6-75F23E384A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