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24119"/>
        <c:axId val="4613505"/>
      </c:barChart>
      <c:catAx>
        <c:axId val="29124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3505"/>
        <c:crosses val="autoZero"/>
        <c:auto val="1"/>
        <c:lblAlgn val="ctr"/>
        <c:lblOffset val="100"/>
        <c:noMultiLvlLbl val="0"/>
      </c:catAx>
      <c:valAx>
        <c:axId val="4613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24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D1E-E142-460F-AC5E-5A5220B4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2F8-96D4-4C22-98E8-86091352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C48-709E-4087-8E13-3B57A0E1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332-79E4-4173-B186-4801EA5F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B55-7AD2-464B-9777-BA2745B7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4F0-D7ED-4A9C-A42A-4FA5E6F1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454-82FF-44A9-B382-94D281B1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704-7741-4C62-B2B9-69A71360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26A-56D1-4619-9E47-5133CE4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A72-661B-43C2-9142-78863280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888-E501-4370-B48C-6DD01FB3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91F-BC2D-43A2-BBA8-615883AB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1ED80-4A46-407C-B2FB-B3AF09B3FD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