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52688"/>
        <c:axId val="47284750"/>
      </c:barChart>
      <c:catAx>
        <c:axId val="985526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84750"/>
        <c:crosses val="autoZero"/>
        <c:auto val="1"/>
        <c:lblAlgn val="ctr"/>
        <c:lblOffset val="100"/>
        <c:noMultiLvlLbl val="0"/>
      </c:catAx>
      <c:valAx>
        <c:axId val="47284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526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10CF-30DA-4094-BA27-7518A99A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7FF-C001-4483-BDF4-78695ADE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0F4-B455-476F-8981-9151CC1F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B7D-6DA6-4F30-AD48-E1BD084A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554-1FBB-4822-A88B-7810D544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236-BF5A-4C38-8F11-5FDB9045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F5C-C548-45C9-AEED-C1E2573C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B76-231D-460C-A423-FD5C93F9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85D-24D7-4A8C-AE3B-15BDC107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6A0-484A-4FC4-BF0E-AEC0F8E1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36E-4B31-46F9-96B2-1CE94729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2C2-B9E4-4411-85A7-92D67E38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B2E3A-224D-4FFC-91C0-A4759FEF10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