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81377"/>
        <c:axId val="41330862"/>
      </c:barChart>
      <c:catAx>
        <c:axId val="92481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30862"/>
        <c:crosses val="autoZero"/>
        <c:auto val="1"/>
        <c:lblAlgn val="ctr"/>
        <c:lblOffset val="100"/>
        <c:noMultiLvlLbl val="0"/>
      </c:catAx>
      <c:valAx>
        <c:axId val="413308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81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4A93-CEB2-4A19-92FD-869FAE18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A594-0D84-4382-8801-DADBEAF1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EB2-6351-4DDF-BC0F-4868CD8F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3E1D-FC7F-44D5-9350-2D6062870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1BD-F72D-4F8B-89B0-8C22D2C4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E5E-7A6F-4788-AA4B-AEB60707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12E-F774-474B-83A8-8A59D558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F271-255E-4750-8560-9440CBC1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B71-5FAE-4D52-ACF1-7A8EF10C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14D6-FA63-4E4F-8DCE-97D83ED6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C3CA-9D1D-4FCC-9A98-2F8E0F03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63C-09B5-465A-BF8E-7C4E09EF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E6FB6-2A2B-4612-8FB2-637A86FF94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