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96285"/>
        <c:axId val="94583447"/>
      </c:barChart>
      <c:catAx>
        <c:axId val="521962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83447"/>
        <c:crosses val="autoZero"/>
        <c:auto val="1"/>
        <c:lblAlgn val="ctr"/>
        <c:lblOffset val="100"/>
        <c:noMultiLvlLbl val="0"/>
      </c:catAx>
      <c:valAx>
        <c:axId val="94583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962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AA5E-F666-4073-8440-88DA45F7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7FC-DADA-4EC3-8CD6-11E3A3FB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6C4-EFCC-4BC6-8A9B-96CE96A3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C30-DFA1-4BCE-A405-9612D840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69E-0158-4589-B0C8-11AD6ED7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21C-AB28-42C8-A109-5F236E1C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6C4-F064-40FA-AD3C-00E3DEC9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EC1-82BB-42C3-A29A-71AB9DF6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920-DC44-4213-98A0-DA61CBB7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984-963C-4E37-88B9-AF187407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E8E-7987-43C6-89E1-4FA8AAF1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486-5F01-44A0-A06E-4B752BAE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16781-6A69-4253-843B-12901A9746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