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738601"/>
        <c:axId val="50161312"/>
      </c:barChart>
      <c:catAx>
        <c:axId val="197386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161312"/>
        <c:crosses val="autoZero"/>
        <c:auto val="1"/>
        <c:lblAlgn val="ctr"/>
        <c:lblOffset val="100"/>
        <c:noMultiLvlLbl val="0"/>
      </c:catAx>
      <c:valAx>
        <c:axId val="501613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7386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A230-19DA-4C37-9B10-6577DBDCB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5443-4C45-4210-9820-F665D243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CDFE-0C8F-4079-B324-99D7E1E9E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23EB-3224-4B0A-A46B-3FE616D4D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02C6-1828-4427-B03E-DD7AEA33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5369-D1AF-4A73-9E2A-A3E3B339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4C36-25F8-47C3-9DE1-34105981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2C9A-F0B8-45F6-8DA9-E3788BED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08B2-78D8-4838-85D1-1B868D21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CD95-7918-44AA-912E-1DA7CB78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FD89-8735-43B0-9C32-DB6B2226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B696-636B-442D-AC9B-F4B5513F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69ADB3-A7E5-40B3-82B0-A292836812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