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86859"/>
        <c:axId val="1144405"/>
      </c:barChart>
      <c:catAx>
        <c:axId val="70586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405"/>
        <c:crosses val="autoZero"/>
        <c:auto val="1"/>
        <c:lblAlgn val="ctr"/>
        <c:lblOffset val="100"/>
        <c:noMultiLvlLbl val="0"/>
      </c:catAx>
      <c:valAx>
        <c:axId val="1144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86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7A7-1A15-4147-B4DE-6C0B0F12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D25-760A-4333-84B8-3A6C094D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8AF-FF2E-449E-8B1B-1563407E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849-AFE8-44F3-A66B-0EBD842F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15A-8E0A-4685-BB49-7DB7D34A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B05-8E5B-4715-B59F-52EE34C3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AFD-5BCD-4C37-BA8E-30263F5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B57-123F-454F-8A29-A173247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564-96B3-433D-8060-1E054127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694-E649-4784-89F7-9F516B5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C84-64ED-445D-945E-1A2D518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083-EFD8-4DE4-AFC3-7593761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E1141-6901-4C90-94B3-FF7D809375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