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21558"/>
        <c:axId val="31084888"/>
      </c:barChart>
      <c:catAx>
        <c:axId val="72421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84888"/>
        <c:crosses val="autoZero"/>
        <c:auto val="1"/>
        <c:lblAlgn val="ctr"/>
        <c:lblOffset val="100"/>
        <c:noMultiLvlLbl val="0"/>
      </c:catAx>
      <c:valAx>
        <c:axId val="31084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21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289-C34C-4A82-B0C8-AE16BA02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D7F-AE44-47FA-BD49-7F5889A8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35D-2BE5-4D2F-B8F9-FCC9B411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DE8-1102-4BFD-8818-6AE4B5BE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255-82DD-41F8-B728-8724370E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84A-45A9-46A8-9E66-7F420AF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527-EDC3-4E30-BB84-B174B404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847-E77D-492E-94DF-B43E1CA1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FEF-DE98-4EBC-B5A2-7D800811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F11-B591-4096-81C1-17F90485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A4E-4B41-4FD1-9C1A-12C1130D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47D-725A-437C-AA22-A7DB740D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A9638-884D-420B-BAC5-BC7DB47BE4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