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12909"/>
        <c:axId val="33474252"/>
      </c:barChart>
      <c:catAx>
        <c:axId val="20212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74252"/>
        <c:crosses val="autoZero"/>
        <c:auto val="1"/>
        <c:lblAlgn val="ctr"/>
        <c:lblOffset val="100"/>
        <c:noMultiLvlLbl val="0"/>
      </c:catAx>
      <c:valAx>
        <c:axId val="33474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12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944-1216-4A4C-B1EC-21D9187C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E91-E057-47CE-8D77-02B018B5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63C-108B-4BB5-B4F9-CD598BE1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0F0-3096-445D-9D84-7CDF7A7F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255-5F5E-4181-A6F8-BDF388AE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3F9-54A6-4085-B0F5-1C9994A2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D22-CED6-42CF-9472-A7C9DC01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C49-97EC-4A80-BA8A-E2B4AB2B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0A7-4BB7-4018-93C4-51073CBC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C2A-91DA-4A88-B733-DBF1179B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3B9-17DE-4D0B-A613-5C53BC93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D62-E0E9-48B1-9E45-32525626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51782-3104-4AE9-A5E3-FC1F4CABC5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