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93918"/>
        <c:axId val="61578990"/>
      </c:barChart>
      <c:catAx>
        <c:axId val="45493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78990"/>
        <c:crosses val="autoZero"/>
        <c:auto val="1"/>
        <c:lblAlgn val="ctr"/>
        <c:lblOffset val="100"/>
        <c:noMultiLvlLbl val="0"/>
      </c:catAx>
      <c:valAx>
        <c:axId val="61578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93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87F-9041-46B8-95E1-666F660E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58D1-838E-4CEB-BBF6-96BC3A77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6D7-37F4-4768-9FCA-2C88E9F4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A044-3471-4EFC-89F9-7EABCBEF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4B3C-835D-4EB0-806D-EBC94281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41A-BDE2-44BC-A8E3-5E2D4740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CF4B-6362-4A01-A534-A393785E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B86A-4895-4272-9436-AB469892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AFF9-6F41-44F0-9D49-5150E4D3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DEE-C0A1-4024-83A7-A8500D09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23D-B48C-4D58-833A-9BACE991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D8B-3B06-4508-8ECD-531C8131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365A6-A419-477C-9F0E-EA45F7D8AE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