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90729"/>
        <c:axId val="33575880"/>
      </c:barChart>
      <c:catAx>
        <c:axId val="24907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75880"/>
        <c:crosses val="autoZero"/>
        <c:auto val="1"/>
        <c:lblAlgn val="ctr"/>
        <c:lblOffset val="100"/>
        <c:noMultiLvlLbl val="0"/>
      </c:catAx>
      <c:valAx>
        <c:axId val="335758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07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CD41-DBCA-4DE7-A893-56ED8F37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0981-209F-481C-84DA-5FB87D57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2AFE-E991-4C5B-B53E-D2F34897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0442-93DE-4CE9-B6F0-A1EDB7CC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6691-360F-4CE5-83E4-F96BAC84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DB77-3814-461F-A6E3-8E3C005C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24E6-8C18-46C4-A1DD-6A929123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F1E5-1196-454D-ACF6-F9233051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2247-069E-4B5C-9C47-0F84FB34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8CF5-68FE-4BDA-B05F-D5B0B061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92C8-2FBB-4836-BDB2-E9ED7707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6E41-B927-40C2-B921-0FF57C77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79596-301E-4CA7-B0BD-D632E270FB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