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43538"/>
        <c:axId val="60700132"/>
      </c:barChart>
      <c:catAx>
        <c:axId val="94243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0132"/>
        <c:crosses val="autoZero"/>
        <c:auto val="1"/>
        <c:lblAlgn val="ctr"/>
        <c:lblOffset val="100"/>
        <c:noMultiLvlLbl val="0"/>
      </c:catAx>
      <c:valAx>
        <c:axId val="60700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43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43F-FFCA-46AA-B2B6-C53765D2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321-5670-4966-AC5B-5E3177D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869-B636-421F-AF07-24720CFC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2C3-EA17-4A4E-876D-31248FF7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0E9-8308-4244-9262-4F6FC1B1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F6D-931D-4E17-A8AB-F064167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FE0-4546-416E-9605-E337A862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4CC-6D1E-43B6-84A1-76C4F414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744-A309-4A41-A0C6-6FD4B90E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EC5-7E10-4F82-AC02-0361C487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536-F08D-4183-99E1-1722FE4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259-3E47-4EC4-8C26-93EEABE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A6849-4810-492E-9147-966DCA410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