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24119"/>
        <c:axId val="88287064"/>
      </c:barChart>
      <c:catAx>
        <c:axId val="39224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87064"/>
        <c:crosses val="autoZero"/>
        <c:auto val="1"/>
        <c:lblAlgn val="ctr"/>
        <c:lblOffset val="100"/>
        <c:noMultiLvlLbl val="0"/>
      </c:catAx>
      <c:valAx>
        <c:axId val="882870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4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D5E1-7341-4A62-96B4-130A0562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472E-A2FB-46F1-AF29-D92D2FE3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741-B208-4582-B1F8-18FB1B56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B427-C632-4C27-89CE-A67F9E4A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E546-B8FF-4159-9B14-31528BD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A9C-65E8-4772-B8D1-BAF6633E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ACC-7D52-4CCD-B4B9-B0FF0CD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3C0-3268-4F12-B15D-8A8A678D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3B9-C077-4988-95DF-A31C0EFF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7C31-A7B8-4B24-A5BE-358FD1B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D55D-3AA8-4F47-8A8F-B00672AB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CDD-8097-47E6-B2ED-D3B28D1C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FF7C0-04DE-4B98-9C95-AA1D8AD78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