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556958"/>
        <c:axId val="84551948"/>
      </c:barChart>
      <c:catAx>
        <c:axId val="275569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551948"/>
        <c:crosses val="autoZero"/>
        <c:auto val="1"/>
        <c:lblAlgn val="ctr"/>
        <c:lblOffset val="100"/>
        <c:noMultiLvlLbl val="0"/>
      </c:catAx>
      <c:valAx>
        <c:axId val="845519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569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694B-D84A-4888-9287-8857C1F40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BB1C-F579-4E32-B501-875BB0B2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3EB6-218D-47E7-A10F-D2A868B64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DAE-9E2C-428A-BBFB-A74DDB7DD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47E7-12DC-4415-A139-7DD4B3DC5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B92F-D753-4416-B3C8-B45333E30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405B-555F-4750-9B56-1FA309FDA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CC9F-6599-413B-AF4C-2CA9434E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1FCD-57D9-4B59-BEAC-BC07A73B4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60FD-CA84-4D0C-BC03-BAF5DFAC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D1D1-0E93-401E-B6B2-EBD394637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DC8-E7E8-4A30-B662-6FF22657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149C7-5C3E-4EC4-9D33-55FE4630BF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